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CCB-629B-4E51-8FD2-B9B01241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426-4A23-4E1A-AF28-8962B3A1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24F2-30F4-4052-84F3-1AADFDA5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372D-0E54-4774-B458-4A72CB0F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C900-5BCF-4C98-9853-7E04E3CA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0C5A-B997-4B91-99CB-86A31CD3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4F08-0A21-43E1-8349-23B71E26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DA38-0233-45BC-8C9A-D8673D11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9F74-0A86-4EDB-8E36-6CA5E0EB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5D49-79FD-4D01-BC68-C0A40265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48E8-6943-4358-8680-817BF92E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FD8F-5F08-4F3E-9229-5EE51119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0FAF-D056-48F5-931D-8697E788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6C4E-BCDB-407D-AC69-F1314537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AC85-B716-49CA-B05D-4876165F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3888-C468-4EE9-8629-49FFC253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6517-B0DD-4C68-AF8D-C8203711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677B-B4B7-486B-8AF0-0E44AD67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5EFA-F6E0-4033-A6BC-A4FD6176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F0C-C480-442F-A38F-180523C7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C50-B570-4585-B81D-B0CA58C9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900-50E8-4456-8159-9BE7E0E4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539-E028-4349-B92F-B8904204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632-46D7-4B48-B0DD-9EA5233D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E8B9-CC23-4D3B-B836-A342429DEDF6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E67C-2D64-4297-9BD7-42F99CB274A2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0920" y="2079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ROZSZERZANIE 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UŁAMKÓ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ZADA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80920" y="998640"/>
            <a:ext cx="3286440" cy="557280"/>
            <a:chOff x="880920" y="998640"/>
            <a:chExt cx="3286440" cy="557280"/>
          </a:xfrm>
        </p:grpSpPr>
        <p:sp>
          <p:nvSpPr>
            <p:cNvPr id="99" name=""/>
            <p:cNvSpPr/>
            <p:nvPr/>
          </p:nvSpPr>
          <p:spPr>
            <a:xfrm>
              <a:off x="880920" y="1088280"/>
              <a:ext cx="32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Rozszerzamy ułame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672000" y="998640"/>
                  <a:ext cx="21564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880920" y="1088280"/>
              <a:ext cx="32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Rozszerzamy ułame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3672000" y="998640"/>
                  <a:ext cx="21564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03" name=""/>
          <p:cNvGraphicFramePr/>
          <p:nvPr/>
        </p:nvGraphicFramePr>
        <p:xfrm>
          <a:off x="2367000" y="1574640"/>
          <a:ext cx="486072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1574640"/>
                    <a:ext cx="486072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16680" y="3563640"/>
            <a:ext cx="25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tem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cznik i mianowni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86280" y="3429000"/>
                <a:ext cx="215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357720" y="3563640"/>
            <a:ext cx="59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mnożyliśmy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zez 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stępnie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zez 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tem znowu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zez 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6640" y="41410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O ile rozszerzono ułamek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6280" y="4643280"/>
          <a:ext cx="6705720" cy="174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6280" y="4643280"/>
                    <a:ext cx="670572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46280" y="1314360"/>
            <a:ext cx="7993080" cy="3376800"/>
            <a:chOff x="746280" y="1314360"/>
            <a:chExt cx="7993080" cy="3376800"/>
          </a:xfrm>
        </p:grpSpPr>
        <p:sp>
          <p:nvSpPr>
            <p:cNvPr id="114" name=""/>
            <p:cNvSpPr/>
            <p:nvPr/>
          </p:nvSpPr>
          <p:spPr>
            <a:xfrm>
              <a:off x="1464120" y="1897560"/>
              <a:ext cx="63241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zszerzając ułamek należ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icznik i mianownik ułamk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omnożyć przez tą samą liczbę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różną od 0 i 1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6280" y="1314360"/>
              <a:ext cx="7993080" cy="3376800"/>
            </a:xfrm>
            <a:prstGeom prst="ellipse">
              <a:avLst/>
            </a:pr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56:14Z</dcterms:modified>
  <cp:revision>42</cp:revision>
  <dc:subject/>
  <dc:title>Slajd 1</dc:title>
</cp:coreProperties>
</file>